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E38-DFBE-4E3A-A25C-657068B5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8C9-6DF5-416C-9E96-92B9C3DE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03C-60C8-4A7D-A1DA-62449D0E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188-6CA2-40B7-9E96-5711B4BF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B2B-C683-44BF-B466-132418F7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EC0-ED39-421C-8CBD-08E3FA19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D8F-24FB-4F48-8A69-01CFD9D8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3F2-FE13-487F-AB0B-A3994F23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14A-EB63-4E11-B4D2-F68E91A1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FB4-B5EA-491D-8065-848491E2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B7A-C482-4610-8E3C-0F2D4E21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EA8-9603-400C-88DF-9FC457AB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9EA4-4DEA-4D2C-AA7F-8D52C71BD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Book of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Vaiva, Courtney, and A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 with Nijole Pup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c3ce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Methods of Traveling to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400" t="13500" r="2400" b="4500"/>
          <a:stretch/>
        </p:blipFill>
        <p:spPr>
          <a:xfrm>
            <a:off x="6248520" y="1676520"/>
            <a:ext cx="2198520" cy="176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666880" cy="145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2222" t="8470" r="2222" b="8470"/>
          <a:stretch/>
        </p:blipFill>
        <p:spPr>
          <a:xfrm>
            <a:off x="3352680" y="1523880"/>
            <a:ext cx="254952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2133720" cy="14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1339" t="3707" r="1339" b="1853"/>
          <a:stretch/>
        </p:blipFill>
        <p:spPr>
          <a:xfrm>
            <a:off x="2514600" y="4114800"/>
            <a:ext cx="2076480" cy="149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724280" y="5257800"/>
            <a:ext cx="2000520" cy="136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1125" t="2535" r="1125" b="2535"/>
          <a:stretch/>
        </p:blipFill>
        <p:spPr>
          <a:xfrm>
            <a:off x="6858000" y="4572000"/>
            <a:ext cx="2144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1:06:34Z</dcterms:created>
  <dc:creator>Student</dc:creator>
  <dc:description/>
  <dc:language>en-US</dc:language>
  <cp:lastModifiedBy>Courtney</cp:lastModifiedBy>
  <dcterms:modified xsi:type="dcterms:W3CDTF">2009-01-13T00:22:37Z</dcterms:modified>
  <cp:revision>4</cp:revision>
  <dc:subject/>
  <dc:title>Log Book of 20th century </dc:title>
</cp:coreProperties>
</file>